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75C0-639F-4355-9BF5-1458B4590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rgosymedical.com/Diges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picture-of-the-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rbsandmore.com/2012/02/digestive-problems-acid-reflux-is-vanquished-with-alkaline-wat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healthnative.com/diet-for-peptic-ulc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udyblue.com/notes/note/n/392--digestive-system-catabolize-macromolecs/deck/2596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v/animal-nutrition/holozoic-nutri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positphotos.com/10073266/stock-illustration-Digestive-Sy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3/057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zadehmd.com/parotid-salivary-gland-surgery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-forums.com/index.php?topic=576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heartguts.com/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FB1-F1CF-47DB-9DA8-9195B83E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CD9-D404-4DAA-888E-274D13EA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C4F-F0F5-48A0-898F-282D741C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DC1-0F00-4F3B-94B7-5FCAFD29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240-F241-43C3-B0AA-8597BCD9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91F-7EE7-4EA0-A455-DF298FB8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845-9BD3-4F3B-91A4-A017FCBA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B24-4E3A-40D9-B326-85DD2AD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733-B4CA-4C30-9FA2-18BF7A8D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275-CE4E-4AC3-BE2F-DEC9488F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2DE-06EA-4509-82B5-A04C38D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5DB-44B3-410A-804E-A67E0633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E405-E19F-43E9-AB46-A3D562DB6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imations.3d4medical.com/Peristalsis-animation_AN2441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3, 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t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s relea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sin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d by aci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igests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us becom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67080" y="2081160"/>
            <a:ext cx="44197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e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920" y="1981080"/>
            <a:ext cx="412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 Ul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51240" y="1981080"/>
            <a:ext cx="424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celled 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lyfish, flatworms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trovascular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038480" y="2424240"/>
            <a:ext cx="48006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tract with two op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wo openings better than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502000"/>
            <a:ext cx="3809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71880" y="16765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in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digestion with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 contains enzy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yl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igests st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 helps with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95680" y="237024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sopha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glot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oses over the trachea during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ood moves to stomach du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imations.3d4medical.com/Peristalsis-animation_AN244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612880"/>
            <a:ext cx="38098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cters control movement of food in &amp; out of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ic juice contains enzymes, acid, and 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1616040"/>
            <a:ext cx="44197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14:23:53Z</dcterms:created>
  <dc:creator>rubina khan</dc:creator>
  <dc:description/>
  <dc:language>en-US</dc:language>
  <cp:lastModifiedBy>rubina khan</cp:lastModifiedBy>
  <dcterms:modified xsi:type="dcterms:W3CDTF">2013-05-02T14:59:41Z</dcterms:modified>
  <cp:revision>17</cp:revision>
  <dc:subject/>
  <dc:title>PowerPoint Presentation</dc:title>
</cp:coreProperties>
</file>